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228708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4651560"/>
            <a:ext cx="264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1061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465156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287080"/>
            <a:ext cx="40158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651560"/>
            <a:ext cx="822960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0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28708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8" descr="LOGO"/>
          <p:cNvPicPr/>
          <p:nvPr/>
        </p:nvPicPr>
        <p:blipFill>
          <a:blip r:embed="rId2"/>
          <a:stretch/>
        </p:blipFill>
        <p:spPr>
          <a:xfrm>
            <a:off x="2000160" y="0"/>
            <a:ext cx="4857840" cy="116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119664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ИНТЕГРИСАНЕ АКАДЕМСКЕ </a:t>
            </a:r>
            <a:br>
              <a:rPr sz="3200"/>
            </a:b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СТУДИЈЕ ФАРМАЦИЈ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79280" y="2852640"/>
            <a:ext cx="8785440" cy="40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Стручна студентска пракс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Лековите масти, крамови и гел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ц. др. Марина Томовић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sr-C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0" y="1125360"/>
            <a:ext cx="91440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еднос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ке конзистенције, транспарентан,  извлачи се кончасто, лако се маже на кож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Ман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ушава поре на кожи, тешко се спира са коже, тешко отпушта лек, не прима во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69510_133792546670469_3264163_n"/>
          <p:cNvPicPr/>
          <p:nvPr/>
        </p:nvPicPr>
        <p:blipFill>
          <a:blip r:embed="rId1"/>
          <a:stretch/>
        </p:blipFill>
        <p:spPr>
          <a:xfrm>
            <a:off x="3203640" y="4437000"/>
            <a:ext cx="285732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0" y="836640"/>
            <a:ext cx="9144000" cy="573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ог или синтетског порек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ки афинитет према кожи и кожа их добро подноси.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о отпуштају лек и добро се размазу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бо примају воду, лако се кваре и ужег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дају им се антиоксиданси и конзерван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xungia porci – свињска маст, ретко у употреб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lea pinguia – биљна уља, не користе се сама већ у комбинацији са чврстим и получврстим подлога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alba – бели пчелињи вос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flava – жути пчелињи воса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taceum – восак из главе китова, замењује се цетил - палмита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ra lanae, adeps ladae, lanolinum anhydricum – безводни лано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тетске масне ма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јчешће је у употреби ланолин за синтезу безводних по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суство холестерола у ланолину омогућава синтезу подлога које могу да приме в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олин је смеш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ара виших алкохола и холестерол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ишим масним киселинама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ао и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ободних масних киселина и виших алкох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на је сировина пореклом из ву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ко се оксидише, висок пероксидни број и инкопатибилан је са антибиот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те је боје лепљиве конзистенције и може да изазове алерги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валитет ланолина се везује за његов водени број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рој грама воде које 100 грама ланолина трајно везу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да веже воду ланолин прелази у емулзију типа вода у уљу В/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ебним поступцима из ланолина се добијају ланолински алкохоли –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аналко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вај производ је мање жилав него ланолин, нема непријатан мирис и садржи 30% холестерола због чега могу да емулгују знатно већу количину воде од ланолин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lanolin"/>
          <p:cNvPicPr/>
          <p:nvPr/>
        </p:nvPicPr>
        <p:blipFill>
          <a:blip r:embed="rId1"/>
          <a:stretch/>
        </p:blipFill>
        <p:spPr>
          <a:xfrm>
            <a:off x="395280" y="1052640"/>
            <a:ext cx="2592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9" descr="lanolin"/>
          <p:cNvPicPr/>
          <p:nvPr/>
        </p:nvPicPr>
        <p:blipFill>
          <a:blip r:embed="rId2"/>
          <a:stretch/>
        </p:blipFill>
        <p:spPr>
          <a:xfrm>
            <a:off x="468360" y="3933720"/>
            <a:ext cx="2590920" cy="26863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1" descr="768px-Cera_alba2"/>
          <p:cNvPicPr/>
          <p:nvPr/>
        </p:nvPicPr>
        <p:blipFill>
          <a:blip r:embed="rId3"/>
          <a:stretch/>
        </p:blipFill>
        <p:spPr>
          <a:xfrm>
            <a:off x="4282920" y="1197000"/>
            <a:ext cx="4023000" cy="5361120"/>
          </a:xfrm>
          <a:prstGeom prst="rect">
            <a:avLst/>
          </a:prstGeom>
          <a:ln w="0">
            <a:noFill/>
          </a:ln>
        </p:spPr>
      </p:pic>
      <p:sp>
        <p:nvSpPr>
          <p:cNvPr id="60" name="TextBox 7"/>
          <p:cNvSpPr/>
          <p:nvPr/>
        </p:nvSpPr>
        <p:spPr>
          <a:xfrm>
            <a:off x="979560" y="620640"/>
            <a:ext cx="136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АНОЛИ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ANd9GcTnNMGI3Rlt443kaLzggWBKcV2efUo1X1-39poP6UDoys68v6Bk"/>
          <p:cNvPicPr/>
          <p:nvPr/>
        </p:nvPicPr>
        <p:blipFill>
          <a:blip r:embed="rId1"/>
          <a:stretch/>
        </p:blipFill>
        <p:spPr>
          <a:xfrm>
            <a:off x="324000" y="1413000"/>
            <a:ext cx="3887640" cy="2584440"/>
          </a:xfrm>
          <a:prstGeom prst="rect">
            <a:avLst/>
          </a:prstGeom>
          <a:ln w="0">
            <a:noFill/>
          </a:ln>
        </p:spPr>
      </p:pic>
      <p:sp>
        <p:nvSpPr>
          <p:cNvPr id="62" name="TextBox 5"/>
          <p:cNvSpPr/>
          <p:nvPr/>
        </p:nvSpPr>
        <p:spPr>
          <a:xfrm>
            <a:off x="550800" y="981000"/>
            <a:ext cx="29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ЖУТИ ПЧЕЛИЊИ ВО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7" descr="26-59-large"/>
          <p:cNvPicPr/>
          <p:nvPr/>
        </p:nvPicPr>
        <p:blipFill>
          <a:blip r:embed="rId2"/>
          <a:stretch/>
        </p:blipFill>
        <p:spPr>
          <a:xfrm>
            <a:off x="250920" y="4581360"/>
            <a:ext cx="2941560" cy="25606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1" descr="ANd9GcQjzkl9CfYb3_wMtYEkthlENmcTQAeiGgolOHZrIod07UCJUhbo"/>
          <p:cNvPicPr/>
          <p:nvPr/>
        </p:nvPicPr>
        <p:blipFill>
          <a:blip r:embed="rId3"/>
          <a:stretch/>
        </p:blipFill>
        <p:spPr>
          <a:xfrm>
            <a:off x="5435640" y="1341360"/>
            <a:ext cx="3313080" cy="2367000"/>
          </a:xfrm>
          <a:prstGeom prst="rect">
            <a:avLst/>
          </a:prstGeom>
          <a:ln w="0">
            <a:noFill/>
          </a:ln>
        </p:spPr>
      </p:pic>
      <p:sp>
        <p:nvSpPr>
          <p:cNvPr id="65" name="TextBox 8"/>
          <p:cNvSpPr/>
          <p:nvPr/>
        </p:nvSpPr>
        <p:spPr>
          <a:xfrm>
            <a:off x="5234760" y="981000"/>
            <a:ext cx="303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ЕАРИНСК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140px-Sample_of_Triethanolamine"/>
          <p:cNvPicPr/>
          <p:nvPr/>
        </p:nvPicPr>
        <p:blipFill>
          <a:blip r:embed="rId4"/>
          <a:stretch/>
        </p:blipFill>
        <p:spPr>
          <a:xfrm>
            <a:off x="6156360" y="4437000"/>
            <a:ext cx="1590480" cy="2205000"/>
          </a:xfrm>
          <a:prstGeom prst="rect">
            <a:avLst/>
          </a:prstGeom>
          <a:ln w="0">
            <a:noFill/>
          </a:ln>
        </p:spPr>
      </p:pic>
      <p:sp>
        <p:nvSpPr>
          <p:cNvPr id="67" name="TextBox 10"/>
          <p:cNvSpPr/>
          <p:nvPr/>
        </p:nvSpPr>
        <p:spPr>
          <a:xfrm>
            <a:off x="5732280" y="4076640"/>
            <a:ext cx="2311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РИЕТАНОЛ АМ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11"/>
          <p:cNvSpPr/>
          <p:nvPr/>
        </p:nvSpPr>
        <p:spPr>
          <a:xfrm>
            <a:off x="262080" y="4365720"/>
            <a:ext cx="28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ЕЛИ ПЧЕЛИЊИ ВОСА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Апсорпционе б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способност да примају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саставу су мешавина воскова, уља и других масних компонен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себи садрже емулгаторе па примањем воде од безводних подлога се преводе у 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одлоге са силикони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ганска једињења код којих су атоми силицијума везани преко кисеони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емијски стабилна различите конзистенције (течне до чврсте), а вискозитет им је сличан парафин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ају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идрофобни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актер па се не користе у мастима за о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е се код кремова за руке или за заштиту од сун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Excipientis ad unguenta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igna suo nom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 је једноставна подлог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(синоним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Unguentum simplex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фицинална 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h Jug 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ra alba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5,00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tostearol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5,00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ra lanae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5,00         0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selinum albu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85,00</a:t>
            </a:r>
            <a:r>
              <a:rPr b="0" lang="sr-CS" sz="2400" spc="-1" strike="noStrike" u="sng">
                <a:solidFill>
                  <a:srgbClr val="000000"/>
                </a:solidFill>
                <a:uFillTx/>
                <a:latin typeface="Arial"/>
              </a:rPr>
              <a:t>   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 8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  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4"/>
          <p:cNvSpPr/>
          <p:nvPr/>
        </p:nvSpPr>
        <p:spPr>
          <a:xfrm>
            <a:off x="4500720" y="3429000"/>
            <a:ext cx="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tostearolum 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вина једнаких делова цетил и стеарил алкохола. Отопити у патени све састојке, постепено их додајући и мешати све до хлађ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паковати у медицинску кутију за маст или алуминијумску тубу, пазећи да се не уклопи ваздух током пуњења кутије или тубе. Издати са црвеном сигнатуром на којој пише назив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изради лековитих масти када није прописана  подлога или за негу коже уколико не садржи лековиту суптан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229600" cy="619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Excipientis emulsificantis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1" i="1" lang="sr-Latn-CS" sz="2400" spc="-1" strike="noStrike">
                <a:solidFill>
                  <a:srgbClr val="800000"/>
                </a:solidFill>
                <a:latin typeface="Arial"/>
              </a:rPr>
              <a:t>S.s.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 је подлога официнална п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h Jug 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оним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Unguentum emulsifica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личине које прописује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Ph Jug IV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Cera emulsificans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30,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3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araffinum liquidum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20,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2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Vaselinum album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50,00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 u="sng">
                <a:solidFill>
                  <a:srgbClr val="000000"/>
                </a:solidFill>
                <a:uFillTx/>
                <a:latin typeface="Arial"/>
              </a:rPr>
              <a:t>5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100,00          1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572000" y="3860640"/>
            <a:ext cx="0" cy="115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03280" y="0"/>
            <a:ext cx="67788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800000"/>
                </a:solidFill>
                <a:latin typeface="Arial"/>
              </a:rPr>
              <a:t>ЛЕКОВИТЕ МАСТИ </a:t>
            </a:r>
            <a:r>
              <a:rPr b="1" lang="sr-Latn-CS" sz="3200" spc="-1" strike="noStrike">
                <a:solidFill>
                  <a:srgbClr val="800000"/>
                </a:solidFill>
                <a:latin typeface="Arial"/>
              </a:rPr>
              <a:t>- unguenta -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4978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ековите масти су препарати  получврсте конзистенције који се примењују на кожу и слузокожу у сврху лечења, или заштите и неге кож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е групе масти које су намењене слузокожи су офталмолошке, ректалне и вагиналн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састав масти улазе лековита супстанца и по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400" spc="-1" strike="noStrike" u="sng">
                <a:solidFill>
                  <a:srgbClr val="800000"/>
                </a:solidFill>
                <a:uFillTx/>
                <a:latin typeface="Arial"/>
              </a:rPr>
              <a:t>Лековита супстанц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мастима може имати деловањ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септич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биотс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дстрингент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пруритич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нтиинфламаторн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едство за заштиту од УВ зра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т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323640" y="333360"/>
            <a:ext cx="856908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era emulsificans (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емулгујући восак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је емулгатор официнални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po Ph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Jug IV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., а  израђује се од следећих компонен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 u="sng">
                <a:solidFill>
                  <a:srgbClr val="000000"/>
                </a:solidFill>
                <a:uFillTx/>
                <a:latin typeface="Arial"/>
              </a:rPr>
              <a:t>Cera emulsifica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Cetostearolum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90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Natrii lauriylsulfat 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10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Aqua purificata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4,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539640" y="475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0000"/>
                </a:solidFill>
                <a:latin typeface="Arial"/>
              </a:rPr>
              <a:t>Cera emulsificans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 (емулгујући восак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је комплексни емулгатор који у себи има два емулгатора различитих ХЛБ вредности, тако да емулгујући восак диктира настајање емулзије У/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Цетостеарол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ешавина једнаких делова цетил и стеарил алкохола и диктира настајање емулзије В/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тријум лаурилсулфат диктира настајање емулзије типа У/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станак коначног типа емулзије одређује емулгатор који има вишу ХЛБ вредност, а то је у овом случају натријум лаурилсулфат чија је ХЛБ веома висока (4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6836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у патени се одмери емулгујући восак, течни парафин и бели вазелин који се отопе на воденом купати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з повремено мешање пистилом. Након скидања са воденог купатила мешати до хлађ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аковати у медицинску кутију за маст или алуминијумску тубу, црвена сигнатура на којој пише назив препара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длога за лековите супстан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250920" y="124128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мови су получврсте конзистенције и данас се највише користе за примен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топичких лековитих суспстанц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 негу коже (протективно и емолијентно дејст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олијенси – чине кожу меком и глатк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већавају влажност и пластичност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фекакат се постиже посредно – смањује се одавање воде са површине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Директна реакција са ко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3348000" y="119700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800000"/>
                </a:solidFill>
                <a:latin typeface="Arial"/>
              </a:rPr>
              <a:t>КРЕМОВ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9280" y="981000"/>
            <a:ext cx="878544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олијенти могу бит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нтетске масне компоненте које садрже засићене угљоводонике (вазелин, парафинско уљ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иродне компоненте (биљна уља, воскови, ланоли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масни естри (изопропилмиристат, изопропилпалмита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оцена компатабилности емолијенса са масном фазом зависи од поларности емолијенса и иражава се 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декс поларност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Што је индекс поларности већи то је поларност супстанц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њ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ед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мају лепши изглед од подлога типа ма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жа их добро подноси и добро отпуштају лековиту спстан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едостац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о емулзије осетљиве су на варијације у температури током чувања у складиштима и транспорт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рају им се додавати конзерванси због великог садржаја вод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250560" y="692280"/>
            <a:ext cx="821844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мови су фармацеутски препарати по типу технолошке припреме су емулзиј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гу бити подлога тј. носач (вехикулум) за лековиту супстанцу коју је потребно топички примени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зависности како су водена и масна фаза распоређене кремови подлоге су подељени 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1. емулзионе подлоге типа В/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2. емулзионе подлоге типа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3. амбифилне емулзио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0" y="1125000"/>
            <a:ext cx="914400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идови нестабилности код емулзиј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лојавање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двајање диспергованих капљица двеју фаза једних од других. Капи воде одлазе на дно а уље на површину 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алесцен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кретање капи унутрашње фазе једна ка другој и њихо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ирверзибил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пајање услед чега долази до раздвајања фаз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Флокулац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организовање капи унутрашње фазе у флокуле које личе на гроздове. Флокулазија не доводи обавезно до раздвајања ф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верзиј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долази до измене фаза тако да унутрашња фаза постаје спољаш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мови типа В/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да испарава а масна фаза ствара филм и омогућава дужи контакт лека са кож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же се спи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њује се код суве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речава даље одавање воде са кож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а липосолубилних лекова – инкорпорирају се у масну фа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идросолубилни лекови – у воденој фа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га коже ноћи, заштитни кремов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0" y="119700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ста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на фаза, вода и емулгатор (холестерол, ланалколи, цетил и стеарил алкохол, калцијумови сапун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ремови У/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соби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п изгле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 масте гожу – не масте и не затварају по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рзо отпуштају хидросолубилне лек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пољашња фаза (вода) испарава – ствара се осећај хлађења што умањује осећај свраба или б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зервирају с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кономичне – 50 – 70 % во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8436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3200" spc="-1" strike="noStrike" u="sng">
                <a:solidFill>
                  <a:srgbClr val="800000"/>
                </a:solidFill>
                <a:uFillTx/>
                <a:latin typeface="Arial"/>
              </a:rPr>
              <a:t>Подлога </a:t>
            </a:r>
            <a:r>
              <a:rPr b="0" i="1" lang="sr-Latn-CS" sz="3200" spc="-1" strike="noStrike" u="sng">
                <a:solidFill>
                  <a:srgbClr val="800000"/>
                </a:solidFill>
                <a:uFillTx/>
                <a:latin typeface="Arial"/>
              </a:rPr>
              <a:t>(excipiens)</a:t>
            </a: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је носач састављен од једне или више суспстанци и обезбеђуј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контакт лека и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жи као разређивач супстанце које може бити до 99% у ма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служи као носач који ослобађа активну спстанцу за деловањ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омогућава активној супстанци пенетрацију у дубље делове кож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не сме имати споредна деловањ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потре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екце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 заштиту и негу коже (антипирински, антихистамински кре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аста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асна фаза, вода и емулгатор који ставара емулзије типа У/В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гушћивачи који додатно стабилишу емулзију (деривати целулозе, ксантан гума, карбоме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0" y="1025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теарински кремов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су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а група кремова следећег саста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15 % - 30 % масна фа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чине је стеаринска киселина, али и др. масне компонент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лога стеаринске киселине је не само да једним делом буде слободна, већ да се други део сапонификује да би настали сапун служио као емулгатор који диктира настајање емулзије тип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/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дена фаз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вода или смеша воде и хумектанса (глицерол, сорбитол или пропиленгликол који не дозвољавају да се крем осуши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азна компонен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ја служи да се награди емулгатор тј. сапун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105228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етаноламин (ТЕА) – даје најлепше кремове. Додаје се воденој фази када је постигнута одговарајућа темп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тријум хидроксид – чврсти кремови алкалне ре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ијум хидроксид – мекше кремов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Боракс – кремови зрнасте структур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монијум хидроксид – кремови жуте бо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лијум и натријум карбонат – угљен диоксид остаје у крему, испарава и ост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ља шупљин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грађени сапун емулгује остатак стеаринске киселине која је у вишку и која се распршује у виду финих капљи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кон хлађења капљице стеа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ске киселине преламају светлост па крем има седефаст изгле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50560" y="119664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 кремов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оже бити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три начин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- уљану фазу додајемо емулгатору, а затим постепено в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– емулгатор се помеша са воденом фазом па се постепено додаје уљана фа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–најчешћ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ебно се загревају водена и масна фаза до 70° С (само код стеаринских кремова до 80-85° С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мулгатор у зависности да ли је липофилни или хидрофилни се помеша са уљем или вод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век се додаје ВОДЕНА У МАСНУ ФАЗУ, сем код стеаринског крема код кога је обрнуто због боље сапонификације (СТЕАРИНСКИ КРЕМ – МАСНУ У ВОДЕНУ ФАЗУ)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емови се морају мешати све док се не охладе потпу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395280" y="105228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Rp/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А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cidi stearici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24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Propilenglycoli 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           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13,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Triethanolamini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1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Methyli parahydroxi benzoati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0,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Propyli parahydroxi benzoati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0,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Aquae purificatae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lang="sr-Latn-CS" sz="2400" spc="-1" strike="noStrike">
                <a:solidFill>
                  <a:srgbClr val="800000"/>
                </a:solidFill>
                <a:latin typeface="Arial"/>
              </a:rPr>
              <a:t>  ad  100,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800000"/>
                </a:solidFill>
                <a:latin typeface="Arial"/>
              </a:rPr>
              <a:t>M. fiat ungu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Latn-CS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800000"/>
                </a:solidFill>
                <a:latin typeface="Arial"/>
              </a:rPr>
              <a:t>	</a:t>
            </a:r>
            <a:r>
              <a:rPr b="0" i="1" lang="sr-Latn-CS" sz="2400" spc="-1" strike="noStrike">
                <a:solidFill>
                  <a:srgbClr val="800000"/>
                </a:solidFill>
                <a:latin typeface="Arial"/>
              </a:rPr>
              <a:t>S. </a:t>
            </a:r>
            <a:r>
              <a:rPr b="0" i="1" lang="sr-CS" sz="2400" spc="-1" strike="noStrike">
                <a:solidFill>
                  <a:srgbClr val="800000"/>
                </a:solidFill>
                <a:latin typeface="Arial"/>
              </a:rPr>
              <a:t>Спољ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во је магистрална подлога типа емулзије тј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аринског кре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теаринска кис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лина је једним делом слободна и представља масну фазу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другим делом служи за сапонификацију са триетаноламином, при чему се гради сапун емулгатор триетаноламинстеарат, који диктира настајање У/В емулз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179280" y="1052640"/>
            <a:ext cx="8445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: водена и масна фаза се свака посебно загреју на 80-85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Водену фазу чине: вода, пропиленгликол и триетанол амин. Конзарванси метил и пропил хидроксибензоати су официнални по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Ph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Ju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I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и нис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створ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води већ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опиленгликол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да су фазе постигле темепратуру додаје с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мас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воден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зу. Меша се у патени ручно, снажно да би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е постигла хомогеност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ез уклопљеног ваздуха. Након иницијалног емулговања дода се пропиленгликол са конзервансима. Крем се мора мешати све док се не охлади потпу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давање и сигнатур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 медицинској пластичној кутији. Црвена сигнатура, на којој пише „Споља“, датум и потпи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Употреба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длога за хидрофилне лековите супстанце које нису инкопатибилне са алкалијама или се користи као дневни крем за негу кож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ЕЛОВ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лови су получврсти препарати намењени за примену на кожу или слузокож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стају од течности која је „умрежена“ у гелску мрежу захваљујући средству за гелирањ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едство за гелирање може бит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органски хидроколои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неоргански хидрофил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тоје липофилни и хидрофилни гелов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пофилни гелов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течна компонента масно уље или течни парафи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Хидрофилни гелов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вода, глицерол или пропиленглико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Хидрогел је подлога растворљива у води и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масна подлога за инкоропорирање лековите супстан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92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собине гелова с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творни у води, лако се спирају, погодни за космате делове те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ко се исушују - хигроскопно средство (глицерол, сорбитол или пропиленгликол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акују се искључиво у тубе због велике површине испаравања у кутијама,  морају се конзервисат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искозитет гелова је различит у зависности каквој апликацији је намењен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0" y="1052280"/>
            <a:ext cx="914400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л мале вискозности - замена телесних течности (пљувачка или вештачке суз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искознији гелови (гушћи) - лубриканти за катетере, рукавице за преглед, ултразвучни преглед, дентални гелови итд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јчешћа примена гелова је  у дерматологиј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и гелови се конзервишу, у хирургији се користе стерилни гелов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 гелирање се корис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гаканта 2-5% лубрикант, 5% дерматолошк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тријум алгинат  1,5-2% лубрикант,  5-10% дерматолош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желатин 2-1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бопол 0,3-1% лубрикант, 0,05-5% дерматолошки препара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метилцелулоза 3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нтонит 7-2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108000" y="189000"/>
            <a:ext cx="90360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Ichthyolum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        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Tragacanta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5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Glycerol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 2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Aqua puriﬁcata        ad        100,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рад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агаканта се помеша са водом и глицролом у патени и загрева на воденом купатилу док се не формира хомоген гел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да се охлади дода се ихтиол који се меша са хидрофилним базама и допуни испарила вод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Издавање и сигнату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у тубама, са црвеном сигнату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Деловањ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: епителизирајући гел за 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Услови које треба да испуни лековита мас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 сме да дражи место апликациј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 да буде физички стабил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 да има афинитет за кож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ора да буде компатибилна са лековитом супстанц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лако отпушта лековиту супстан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 има 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pH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редност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4,5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3640" y="188640"/>
            <a:ext cx="856908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Израда масти хладним или топлим поступком </a:t>
            </a:r>
            <a:r>
              <a:rPr b="1" lang="sr-CS" sz="2400" spc="-1" strike="noStrike">
                <a:solidFill>
                  <a:srgbClr val="800000"/>
                </a:solidFill>
                <a:latin typeface="Arial"/>
              </a:rPr>
              <a:t>у металној пат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се маст састоји само од масних компоненти, оне се одмере у патени и постепеним хомогеним мешањем компоненти хладним или топлим поступком топљења компоненте хомогенизу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потребно топљење, редослед одмеравања компоненти је такав да се у патену прво одмери супстанца са највишом тачком топљења, којој се када се отопи  додаје супстанца са нижом тачком топљења од претходне и настави у том смеру док се не отопе све потребне компонен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 крају се додаје течна компонента коју не треба топити. Мешати хомогено до хлађењ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250560" y="259920"/>
            <a:ext cx="889308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Уколико је лековита супстанца диспергована у масној подлози то је маст типа суспензије и израђује с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упстанца се уситни пистилом у тариони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рашкасту супстанцу пренети у патену и додати парафинско уље или неку другу прописану масну компоненту да се разриба чврста прашкаста супстанца. Не смеју постојати грудви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додаје се затим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ДЛОГА ЛЕКОВИТОЈ СУПСТАНЦИ,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а не обрнуто! Додавање подлоге је у порцијама, све док се не добије квалитетна хомогена ма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колико се маст састоји од прашкасте супстанце и сложене (вишекомпонентне) подлоге, потребно је подлогу претходно израдити топлим или хладним поступком, а затим додати прашкастој сусптанци на горе описан начи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0" y="98100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Д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гљоводони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ицери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псорпционе баз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лик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Угљоводоничне под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абилне и јефтине, погодна конзитенција, компатабилне са великим бројем лековитих супстан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римају воду, запушавају поре на кожи и тешко се спирај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личите конзистенције од течне до чврс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исокомолекуларна једиње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бинују се између себе ради постизања одговарајуће конзистен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чни парафин – Parfinum liquidum – Oleum parafi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течних угљоводоника који се добијају дестилацијом нафте  (C18 – C2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ањује вискозитет нпр. ваз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вештачког вазе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о масна фаза у емулзија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мезичким кремовима због велике стабил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разрибавање чврсте фаз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врсти парафин – Parafinum solid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ша чврстих и течних угљоводиника који се добијају дестилацијом нафте  (C24 – C3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2" descr="25345-mineral-oil-needed-fast-mineral_oil"/>
          <p:cNvPicPr/>
          <p:nvPr/>
        </p:nvPicPr>
        <p:blipFill>
          <a:blip r:embed="rId1"/>
          <a:stretch/>
        </p:blipFill>
        <p:spPr>
          <a:xfrm>
            <a:off x="5724360" y="1989000"/>
            <a:ext cx="2880000" cy="21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0" y="404640"/>
            <a:ext cx="914400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отреб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очвршћавање меких подлог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израду вештачког вазел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козметичким кремовима за замену воск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зелин – Vaselin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ија се из остатака при дестилацији наф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оидна дисперзија течних угљоводоника у чврстим угљоводониц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исти се за лекове који делују површински и за антибиоти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0" descr="File:Paraffin.jpg"/>
          <p:cNvPicPr/>
          <p:nvPr/>
        </p:nvPicPr>
        <p:blipFill>
          <a:blip r:embed="rId1"/>
          <a:stretch/>
        </p:blipFill>
        <p:spPr>
          <a:xfrm>
            <a:off x="3348000" y="2235240"/>
            <a:ext cx="3668760" cy="296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9:01:08Z</dcterms:created>
  <dc:creator>User</dc:creator>
  <dc:description/>
  <dc:language>en-US</dc:language>
  <cp:lastModifiedBy>Maca</cp:lastModifiedBy>
  <dcterms:modified xsi:type="dcterms:W3CDTF">2018-03-07T15:09:54Z</dcterms:modified>
  <cp:revision>45</cp:revision>
  <dc:subject/>
  <dc:title>Slide 1</dc:title>
</cp:coreProperties>
</file>